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13.png" ContentType="image/png"/>
  <Override PartName="/ppt/media/image8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8C1-32E0-4E3F-A3F3-772FE2C4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594-FECA-443D-8619-EBF648B7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86C-C7E1-409B-B1B4-609DE566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D9B-1607-4243-AE4F-7F77EE05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FA90-99B4-403E-9DFD-259E322C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983A-1E74-460D-90F2-2518EB89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B38E-7A41-4D04-8BDC-184A7F87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A36E-28CA-4A72-96E4-3CF74F16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DC49-E30F-4CD4-86C2-1EEEFA36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69BF-7BE3-4934-A2CD-8E4ACF16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5A6A-35A3-4AA3-AD0E-A16F5E70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5D6B-F2CC-4365-ABE2-599D0DC7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7A6F-DA17-4A73-A2F9-75E7856E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DE5E-5817-4D36-AAB0-DC947E4A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F487-D701-4A0E-9872-0E4BD517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3EAD-03C6-4110-BACE-0230B12B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A065-292D-4F6A-8267-4884DE42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965-7FFB-4C25-A36B-6FAEF9A4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8CD-2A45-4F44-9DD3-DF417F51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38F-6F26-49BD-8171-FE64C566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A97-D8D6-4EAE-B790-E99AAA12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2A2-6104-4577-A4DE-D4A9912B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04F-F56A-4DBF-8517-6E4AA771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DC4-F08D-464A-9C91-01F8FDF5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6503-DFD4-48C2-B3C2-CBD27DFF889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1A3B-826B-45EA-B528-9F33CF8FDA6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20840" y="853920"/>
            <a:ext cx="8399160" cy="2413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Рисунок 4" descr="semya11.jpg"/>
          <p:cNvPicPr/>
          <p:nvPr/>
        </p:nvPicPr>
        <p:blipFill>
          <a:blip r:embed="rId3"/>
          <a:stretch/>
        </p:blipFill>
        <p:spPr>
          <a:xfrm>
            <a:off x="476280" y="3067200"/>
            <a:ext cx="3906720" cy="29368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Times New Roman"/>
              </a:rPr>
              <a:t>15 мая является самым важным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Times New Roman"/>
              </a:rPr>
              <a:t>днем в нашей жизни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Times New Roman"/>
              </a:rPr>
              <a:t>Международным Днем Семь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C:\Program Files\Microsoft Office\MEDIA\CAGCAT10\j0216724.wmf"/>
          <p:cNvPicPr/>
          <p:nvPr/>
        </p:nvPicPr>
        <p:blipFill>
          <a:blip r:embed="rId1"/>
          <a:stretch/>
        </p:blipFill>
        <p:spPr>
          <a:xfrm>
            <a:off x="7072200" y="2786040"/>
            <a:ext cx="1857600" cy="20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4000">
    <p:cut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Когда появилось слово семь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Когда-то о нем не слыхала 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Но Еве сказал перед свадьбой Ада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«Сейчас я тебе 7 вопросов зад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Кто деток родит мне, богиня моя?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И Ева тихонько ответила: «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«Кто платье сошьет, постирает бель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Меня приласкает, украсит жиль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Ответь на вопросы, подруга моя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«Я,Я,Я – Ева молвила, - 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Сказала она знаменитых 7 «Я»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3" descr="55166351.jpg"/>
          <p:cNvPicPr/>
          <p:nvPr/>
        </p:nvPicPr>
        <p:blipFill>
          <a:blip r:embed="rId2"/>
          <a:stretch/>
        </p:blipFill>
        <p:spPr>
          <a:xfrm>
            <a:off x="285840" y="4675320"/>
            <a:ext cx="2214360" cy="1611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2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                      </a:t>
            </a: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Семья – это то, что с                                 тобою рядом всегд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                   </a:t>
            </a: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И пусть стремительно       мчатся года, но дом родной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родные стены навсег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останутся в твоем сердц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3" descr="55296457.jpg"/>
          <p:cNvPicPr/>
          <p:nvPr/>
        </p:nvPicPr>
        <p:blipFill>
          <a:blip r:embed="rId1"/>
          <a:stretch/>
        </p:blipFill>
        <p:spPr>
          <a:xfrm>
            <a:off x="357120" y="1928880"/>
            <a:ext cx="2928960" cy="192888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5ef0f7"/>
                </a:solidFill>
                <a:latin typeface="Arial"/>
              </a:rPr>
              <a:t>Семья</a:t>
            </a:r>
            <a:endParaRPr b="0" lang="en-US" sz="7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– </a:t>
            </a: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это то, что делим на всех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Всем понемножку и в слезы, и  в сме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Взлет и падение, радость, печал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Дружбу и ссоры, молчание, печа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3" descr="55200370.jpg"/>
          <p:cNvPicPr/>
          <p:nvPr/>
        </p:nvPicPr>
        <p:blipFill>
          <a:blip r:embed="rId1"/>
          <a:stretch/>
        </p:blipFill>
        <p:spPr>
          <a:xfrm>
            <a:off x="5248440" y="347760"/>
            <a:ext cx="3305160" cy="297504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             </a:t>
            </a: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У каждого человека должен быть свой дом,        и не просто крыша над головой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     </a:t>
            </a: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где его любят и ждут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где понимают и принимаю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таким, какой он есть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место, где его семь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Рисунок 4" descr="55344822.jpg"/>
          <p:cNvPicPr/>
          <p:nvPr/>
        </p:nvPicPr>
        <p:blipFill>
          <a:blip r:embed="rId1"/>
          <a:stretch/>
        </p:blipFill>
        <p:spPr>
          <a:xfrm>
            <a:off x="176040" y="2451240"/>
            <a:ext cx="2975040" cy="384012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ru-RU" sz="4900" spc="-1" strike="noStrike">
                <a:solidFill>
                  <a:srgbClr val="4f271c"/>
                </a:solidFill>
                <a:latin typeface="Arial"/>
              </a:rPr>
              <a:t>А родные стены строятся на:</a:t>
            </a:r>
            <a:br>
              <a:rPr sz="4900"/>
            </a:br>
            <a:endParaRPr b="0" lang="en-US" sz="49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928800" y="1930320"/>
            <a:ext cx="1714320" cy="5205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в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2643120" y="1930320"/>
            <a:ext cx="1714680" cy="5205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гла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2643120" y="2502000"/>
            <a:ext cx="2357640" cy="5205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жлив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928800" y="2502000"/>
            <a:ext cx="1714320" cy="5205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ро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2643120" y="3073680"/>
            <a:ext cx="1643040" cy="581760"/>
          </a:xfrm>
          <a:prstGeom prst="rect">
            <a:avLst/>
          </a:prstGeom>
          <a:solidFill>
            <a:srgbClr val="b1392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ж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8"/>
          <p:cNvSpPr/>
          <p:nvPr/>
        </p:nvSpPr>
        <p:spPr>
          <a:xfrm>
            <a:off x="928800" y="3073680"/>
            <a:ext cx="1714320" cy="5817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с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11"/>
          <p:cNvSpPr/>
          <p:nvPr/>
        </p:nvSpPr>
        <p:spPr>
          <a:xfrm>
            <a:off x="4286160" y="3073680"/>
            <a:ext cx="3357720" cy="581760"/>
          </a:xfrm>
          <a:prstGeom prst="rect">
            <a:avLst/>
          </a:prstGeom>
          <a:solidFill>
            <a:srgbClr val="b1392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аимопоним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pull dir="l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23227"/>
                </a:solidFill>
                <a:latin typeface="Times New Roman"/>
              </a:rPr>
              <a:t>А из стен растут дома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23227"/>
                </a:solidFill>
                <a:latin typeface="Times New Roman"/>
              </a:rPr>
              <a:t>А потом и моя маленькая стр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Рисунок 3" descr="semya11.jpg"/>
          <p:cNvPicPr/>
          <p:nvPr/>
        </p:nvPicPr>
        <p:blipFill>
          <a:blip r:embed="rId2"/>
          <a:stretch/>
        </p:blipFill>
        <p:spPr>
          <a:xfrm>
            <a:off x="3090960" y="3413160"/>
            <a:ext cx="4230720" cy="274968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r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52:56Z</dcterms:created>
  <dc:creator>Your User Name</dc:creator>
  <dc:description/>
  <dc:language>en-US</dc:language>
  <cp:lastModifiedBy>Your User Name</cp:lastModifiedBy>
  <dcterms:modified xsi:type="dcterms:W3CDTF">2008-11-17T22:53:04Z</dcterms:modified>
  <cp:revision>5</cp:revision>
  <dc:subject/>
  <dc:title>Слайд 1</dc:title>
</cp:coreProperties>
</file>