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6.gif" ContentType="image/gif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0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13.png" ContentType="image/png"/>
  <Override PartName="/ppt/media/image33.wmf" ContentType="image/x-wmf"/>
  <Override PartName="/ppt/media/image37.gif" ContentType="image/gif"/>
  <Override PartName="/ppt/media/image25.wmf" ContentType="image/x-wmf"/>
  <Override PartName="/ppt/media/image34.wmf" ContentType="image/x-wmf"/>
  <Override PartName="/ppt/media/image14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1.jpeg" ContentType="image/jpeg"/>
  <Override PartName="/ppt/media/image12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6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6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B02-7307-4B46-8311-1A34E3B4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172-9DFA-4A7A-AF7B-2A886D76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62999-51A4-4581-A799-4C1AF77C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357E5-F683-4E9A-B500-C3694B2B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EBB39-5857-4E58-B00A-6F4692EF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92EEC-A645-4F61-A3A1-BB76491E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54427-8921-4704-8D96-21514905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8C347-A2A5-45EC-8D7C-6B0FC3FC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43705-B7BB-4E80-A6EC-BB109F3D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B3976-6FD5-4220-9DE8-57FD226D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A3BFA-5192-418D-A39F-F49D8E30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BD4D0-C851-4627-B9B6-AA662827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1C6-D9D8-4C7E-B9D1-710B8A3B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BEB6E-A606-4385-9E32-83C90DA3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DBB19-CE77-452B-92BB-9521B6AD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E7B5A-9E54-4B69-8450-3F24944C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5E6D8-7477-4936-87B5-EB6BF9CC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F9DE9-706E-4D0B-BB70-6B0A6BA3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5322D-04B3-45AE-A042-16E8CAAF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96DA9-18A8-45B1-9B47-2B744DC4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76A17-2720-4ED6-91B8-9CAF36EC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943A2-8EA5-43D4-B065-D9608A80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06715-75DC-4E26-8C07-DB1CD759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CA4-0A84-4229-B1AF-ACDCE02D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701A3-EC31-4441-BE23-E4ADB5BF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E7144-B464-4280-A15C-3370C91B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1212A-7B9F-4875-95A8-6FDC4072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92159-76CE-4F36-B491-9E1DA0B2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3D56B-3A10-4B77-98B0-8178BBA7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75CC9-6FA5-4577-9BA9-A72223C4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1BF85-47F4-4D9D-AE4F-279F4BFE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B2F65-8899-466F-992A-94929E08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B4F33-738B-444A-A59D-94E65B2C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5B8C2-9625-489C-BC69-48DECE72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75B6-70FC-4051-85AD-B01A2DC1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8F4C8-1BD8-4CE2-846F-D1AA36CC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C5B80-38FB-406A-86E0-61BDD0E9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AF06E-6FD3-4FF4-A995-32DA6186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AFA77-A940-4692-B51E-C13EF849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D86F0-AA30-4B84-BCBA-94E89147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3BE28-0737-4152-9319-CFEC40C8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3998C-1C22-4CBD-9758-5B7BC5BF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1338D-4609-4C46-804F-18B38F17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458AA-7086-45E7-8843-43E4CC1C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04B06-2C21-4ABA-8AE2-EF98D1D7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0863-ACE0-4F2F-8AF2-9D983931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4B9DF-F2B7-42F5-B96A-C6818A56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9541B-6055-41EE-A7C4-3357765E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B6583-421C-4D1A-A4D9-1B3C97B3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2BCEF-FFB8-4403-BDB3-E396E941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C43DA-E019-4ACB-90AC-3C90854D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068A2-06DE-42E4-A49E-92743D6E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D4B54-0684-4AE3-9880-54D64370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5379D-70BB-478B-B7DF-4A306799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86AA4-07E8-4092-A778-75001D56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F3C7D-7FF1-46D6-B47E-FCF8D8EE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ECDC-7E79-4379-BC6C-D64CADB5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B31F2-F046-4798-B32E-56582F52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A458A-91F6-4DC3-8110-B562A7F9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8EC95-1AD7-43F6-A382-0875536B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2D480-EE84-4209-B06E-350DFABC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45FD9-7D4C-4ACB-A841-B66FFE64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E4B55-2317-4257-AEF5-C8663844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A7FD7-3F79-4B91-9E4C-A9C405D3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88D82-29D9-485D-9B68-E9CF58C5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56BB6-9A81-4EED-92B7-16DCE305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38BE5-A9D7-4AA5-A5DE-7235AE7F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9BE9-6D63-4639-85B8-6CF0503D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A8F08-9596-4EB1-B0B7-3A3769EE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A5999-A0A8-47E5-90C2-18CE781E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4F659-81FF-4098-A977-F141A68F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7CF6B-B711-4112-B213-ABBDE354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4D7F2-CFE1-4190-9EDE-3F040646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37106-9618-482B-80FA-7EAE2242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282B8-9A18-486B-A96F-BBAC9A1E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2E1BDF-BD11-4C95-881D-B6323410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42FE8-42B6-4127-B117-D76A86E1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512D7-0334-440F-86DF-13CAEDA4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5B88-428C-4B1C-9FFD-DED4DFCD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D9E5A-CAB7-49B9-AC31-518CD6BD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B73A5-3E88-4CA1-94DD-4440D5BA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85F0B2-9B16-453C-8E5A-6A66A7A9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4B6C2B-0BD6-47C2-9D28-BF68B394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41146-9E60-403A-907F-323F09B7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483B81-C0A7-47A5-A263-EF1A9595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9852E-78B6-4ABB-9F73-502B80CF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BE5A6-D8F0-4DD0-A23D-20DD2FFC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17F61-0693-4EEA-84B3-6C04930A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A85DF-5F24-4D7E-88A2-DB342700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1EBB-FA91-4336-9CDC-8CB64163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C15C3-EB74-4FBD-9FC8-7E1B36ED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AE9C7E-B7B9-46BB-89DF-EBD425B9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EAD045-65DB-4DDC-998F-9CC26F5C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8C3F5D-E126-4427-BB09-D741E77D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458CC5-2F01-46AE-858F-3EBE1150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716775-5061-4FC0-BBCD-762B7B34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3A698-41A9-4398-AADE-FEE619A8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4C08D-06BB-47E4-8DC0-BD94727B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46CE49-EAD5-4586-81B3-DB77E992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E7C25-2856-4CB0-A985-AA43EFBA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D98B-0967-49A4-B100-1B5A014C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618D9-32ED-42FB-9950-7D3702B7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0910D-51B7-45B3-B57B-DAE52324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2C2CE-8EA3-491D-8EB1-CFBA3040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84D90-C570-4B3B-B45D-7D012FEB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181D4E-159A-4102-AF90-36312AEF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61F8D-99D7-4261-9F88-9A604BE7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3C3C1-A819-4C5E-BD99-1C4EE553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40862-34CA-46A9-9FC4-0B835553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39592-9085-40E0-8701-F87299E9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F87DE0-86F6-4A1A-9259-D19E8992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B25-4148-462D-B527-1E883AC8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54DA-A1B2-4C72-A7B6-44808F20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E5F1A-D34D-4F5C-A143-70A715A2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86F41-F905-4C65-8165-B0F41AB1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D2282E-84AB-4F74-8F24-02CE2440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1A588D-8CDF-4C5F-BFBB-314C5679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019739-340F-4FBC-B63F-23CA0721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200F70-CA39-43FB-966E-72497B15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CD897C-140C-4E05-8B38-533D7403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1AF9F-5435-4830-9F14-F4CD84AE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E468F1-B825-4D6B-8F6F-EE3B6C54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8D849A-5392-4E6A-BBFC-AB8E4F9B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B89A-C86B-471C-A4A2-2E4FE669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D9BB6D-A59D-4600-AB6B-E8C5B582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259E3A-421E-406A-A78C-B00536BC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7E5000-4B18-44FD-A3D0-6C041F34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2ABF27-6141-47EC-B7E4-5C599C8F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0DAED-0B2D-4B8D-82B6-D3BECE36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139E34-DB2D-4614-BDA5-45EE69FB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B89334-21DE-4BDB-B7D0-929A6344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FB072-8E6C-4155-BBE0-8F72DA69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60C32C-4E54-42EC-9E27-D172692D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F19A1-50CB-4042-9CEB-3EB70387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B81D-5101-4ADD-A0DF-ACC0C758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125887-42C1-4CE5-B618-72E8EAD7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47B1E9-A1BC-47CE-A443-E25FBD4B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FD752F-3EEE-423B-AEDA-A400C16F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83E79-8124-4EF9-AE44-A416DF2B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6BDC49-35EB-4393-9215-E248E2AA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57F23D-10E0-4C3E-9782-E5565AC9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AE0FE8-8848-4CBB-BF50-50A4EEB1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C32C7A-4800-484C-A350-A197D1FA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DFA264-D8EA-441F-9523-CBB6F62A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194EA6-7449-4D7A-94B0-D663316E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4FF5-B168-406F-B56F-F054AB36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A40EFA-57BB-40AB-B0CF-4A1FE62C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BE1050-4133-4713-AF34-9B40D119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D0C62E-1068-4BD9-951C-3600E507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CB222D-9A2A-49EA-9328-A3F09EB4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647D9F-4EA6-4970-9BD2-F6F85270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84CA43-9093-4F77-8168-A8D2A4DA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FE5B89-BC0C-4F78-8672-9E05F9AB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3140B8-2D6C-483E-930F-492672FB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0CCB7E-02B6-4816-A61C-CF5F47ED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0852DD-D624-420C-93E9-C5963E5C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9FFE-860C-431E-B8E4-A3FBAEB2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E8CEC4-C11C-46A9-AB1F-3329A63A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F79B53-5C32-4CE5-9538-6ED57E3A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876765-53C2-49B0-B7AC-36F9BCBA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B83154-7EF3-44B3-907A-DE5806B6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64C2E-6043-4A58-829E-BD701712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6F83D7-FECE-403D-85E8-7655ED05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76FB80-DE94-4498-925B-291FE923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58DE38-5785-41F8-BA33-522CF2FD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C94E69-2B33-4465-A989-67EA283C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424277-33CF-4002-8D3F-2C733715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35B91-148D-450E-97AA-65A7260F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A126BE-3144-431B-92FA-8E9297D6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3BD9C0-3CF8-4C75-9B18-0E1FDADB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745729-E042-4404-84BD-7F9DDFD9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9BD644-9EA5-4FF2-A898-07960372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2E8F17-EFED-4922-9F34-25C6237C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744312-11FF-45F9-9367-B35EED81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32A2CC-02B6-4127-9783-17B2697A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0A49A4-4C8F-4D70-9E1A-C6C3B15C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D36183-CF28-4D78-920D-851298F9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9E19E3-B949-4F4A-AC63-B704503C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F82F4-0B55-44F5-8186-E2812040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F34B7F-DFCD-493F-AFF9-4FB6D47E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CF0546-976A-41B7-AE83-AE35097C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B3F71B-4666-4C38-8070-653423E9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09A515-C809-4930-8112-890C9F81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1477E2-DF6B-425E-8729-9520EE79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53BD28-BE26-4B42-9718-6242D1BE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C875DB-B56C-421F-85FC-AF7A9767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68FB56-7587-4D56-BF97-9D65C6D7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820917-29B7-46EE-A5B7-7ED41CC8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50154D-7374-439C-9679-06A8F1A7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BF76-6613-4050-A610-D9D4DB76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F7AD3B-DB50-4707-91DB-D1873187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E2BBE8-2994-4465-84DD-5755F210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F7BFC2-CDD0-4C4D-9CAF-31A772B0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2CCB26-31C7-4DCE-89F5-41B05D5C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DC2053-DEA6-4542-8072-EC30E212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A3063F-7EAB-4E2B-A790-B2C8E9F2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EC6C06-B623-48D0-87FF-BA5A5F45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98E3C7-9A97-457F-808B-3D5A1687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ECF05E-F3BD-4CEB-BBD9-A94C45C1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871705-9D56-46F0-88E4-74567DEC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A48DA-E441-4355-9B9F-D3C9C88F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AF1B63-F9EF-42B5-8973-A69E126C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145DEB-0DDB-4022-8282-76A32F4A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82D951-0B25-4AE9-B125-5777F891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A5EA6B-D6C3-4151-A30C-DD55BD51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7B4B84-8F08-4A86-A190-9A0A9260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8111E5-6977-4DAE-9081-0C31E29B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85CF46-B344-4F60-8A79-C969B596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BAAC43-A79D-4715-BB44-54877244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2036D1-4347-45EF-831F-1BAB4DC6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0DC9B93-EF54-4AF9-A119-43E65417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34279-9D86-4D6B-872A-E22B6CA3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B0BC173-E14F-4940-94EB-0EF44D0B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49C95EE-3806-48D0-9D8E-E414D211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8184FFE-782B-4E46-B94B-B864E904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C0C6D8E-075F-467E-9B27-46127E33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84C6F09-68C2-4C24-BD62-1AE09FF7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D8A0D22-3E4D-43AC-B8FB-56C5AB50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B6E366F-D5FA-454A-8C30-7528CD00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46433F9-DA1A-49A3-9312-A6AF2122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7AD45CB-111A-41DB-A173-56C1D09A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D19FB38-7DBE-4A74-A0B4-F63C0E82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9FA-65F4-4767-9FA1-2DE65BD4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4F542-51E8-4F94-9793-258FA20C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5189F86-2F43-4C87-A4B4-F6373D88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9AA057-0F8F-4BCD-BE83-9A51FD11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DBC298-6D8B-4FF7-A61C-E93A4AD9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D1FE19-8C3E-4D2E-8C05-1FE4BE84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5CAE94-F92E-43BB-9D32-376C1433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9E27E8-BF5A-4DFA-BD9B-CD352ADF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68133F-13C0-4BFD-B4A6-56ABDFB7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1B918D-3634-4DBA-9267-9D2D2FA3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579C86-2A13-47E1-A573-D6742989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F3585D-3202-435A-9925-CC30100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DE2A8-414D-4E25-B8B9-32FC19C1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EA6DBF-6AEC-4214-B12D-C8757D43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F511F2-AD02-4B1E-A032-5C006FB0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FE6F40-9D52-43A7-BF48-B2734387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9E69EB-CC6D-498B-A57B-626F1069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BA9370-C45D-4D57-8CCD-A1C579F2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65483F-A861-4454-9987-43045A9B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1063A8-DD0D-430C-A91C-FA7B3846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1D83F1-857E-43B3-A063-92E4CABC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8FB265-4199-405D-8C07-AD5AC01A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BAC1A5-E1B1-40BF-862C-DA0B4C20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0490E-2F9C-4014-904E-5A4D8974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3B3D11-23D3-4447-AC9D-4AC1D33F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DED088-20C5-43BA-A95F-C697E24C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D5F777-3D67-434F-B198-98F67999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60DF7A-855C-4BB2-A293-B963317C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8C1270-63D5-45AE-A624-1BF25232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E9FA5D-DD82-4E56-B4D9-B8918224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71624F-6F3B-4011-86ED-C010B73F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2070E9-0856-44AD-ACE7-D56F5A09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EB845B-FB8A-47CB-BF1B-4BAF887A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7AA2D5-255D-4875-999F-924BD9D2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E715-61FE-4B7A-9274-B6961487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16914F-C25B-438B-9031-CACED40E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7CA955-6D28-4A7A-B65C-8E2E547F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0AA173-52E0-477B-8E66-9F68923E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DC1974-5422-4052-A345-33072F59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0D3E24-5E3F-4713-9340-512B5EA5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ECC215-0AA4-4B7E-B563-ECC9AD9F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CF7095-9081-4605-BC95-5CBF13A9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D487-9899-4DD5-B82B-792B6519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60490-C56A-44EB-891A-343A6BCD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10D2-C7D0-40D0-A52F-156C2BDD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194ED-491A-401F-9894-65E15472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6E00-8315-4886-946E-8CC93EE1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D0027-4229-4922-B1FF-8F475BFF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79A-4910-436B-A5A3-21C3C97A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82CFF-3B55-4B6E-AF39-40A672E1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AB4F7-87FD-485D-8EFA-74C33318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E245F-005C-480B-B042-02F1208A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B9FB4-95B0-413A-A192-CE13A121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923E8-5E9C-499C-87F8-856A4F98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86591-89CC-4EB8-B705-9363F038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D1BD9-1A02-4638-B5C3-BBE6C698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032D-8FB9-4B17-8DE5-442918CC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6EE84-6708-4BC3-8E2C-57D07FAF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EBF9E-D395-47D6-A1F6-2A87116A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DD0-37B5-4353-89DC-F31FF71F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53196-5947-4F10-9C1C-CC9A5455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369A6-5764-477F-84F9-BB1D06EA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762E0-97E4-41F2-A144-F3D486D2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5BA3E-41D9-42AF-9596-5B8151CD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F6DF3-C7D4-4D3C-95DD-EF99524C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4327A-F963-42A7-806B-EED649DA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A1942-5F38-4134-9C65-45B89C39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00336-AE18-455E-BE0B-D1DDD214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9FDE2-2ADC-4720-8E0E-7A7B551F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76304-4C7F-4C6D-8B24-08B3F965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8EE-8A7F-4824-8072-CB825AAA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3F629-50A2-4F19-9016-501B8FC7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87BF6-A48A-4589-B5EE-FAEA7641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1962A-47AD-4ADE-8A76-553A574F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1AD21-B998-4C76-A05E-FEE58C9B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8E0D7-535C-421A-8587-08563FD1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38232-5DAD-4DC6-98F3-CC510328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10004-37A0-4AF0-99F9-68B6306C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8A35E-3FE7-459C-AD5C-99D76669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CA0F1-557F-4E8E-9079-A21FE3CE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3D4B6-FEE6-4336-9C8A-A6737966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100-5004-4B6C-85CB-37E62C75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FB86F-E1EF-4BD3-A544-D018F39F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C8848-773D-4701-923D-D3E2B704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73C42-4CCF-4033-A050-9E49ED8E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6891A-4742-4565-889E-C9F7A47F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D58BB-B699-4E95-9143-0D91D407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22E4D-BF69-48E8-96E8-28E376C2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9CD50-1157-4F61-AAE0-487BFD28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A5265-ED49-4DA8-8076-1E81CD8B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CD0DA-F1C4-4811-9B40-C301B9E5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24851-F126-468B-81BA-A59F8731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529-4555-4F9B-911F-B5AD9C4E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2938D-F83F-4A1A-8286-F555583C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232CC-A41B-46E5-945A-EAE82053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01CC3-9FD9-47A6-89E6-C3842061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D85A7-5BD1-4C9E-9E8C-05C2B827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48442-8E0C-486B-B075-75255D85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7802E-97C0-428F-AA83-A5A483E6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951B9-B044-4863-8F78-19C5B639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4395D-343A-4FE0-A0BA-2ACAE87E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A4685-330A-415A-A656-9E892D85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D7D6E-2594-4276-90B2-E5967F8F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4BE-B406-42B0-90F4-EA5ED403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B56E6-82C1-4800-A03B-3DEF73D9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82937-00C9-46EF-801B-8FC6DB3C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7FA32-90E1-41F4-893B-11EFA16D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3910F-5B62-41F4-B4B9-133F7699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2A8BD-C975-459B-8777-56BECED1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439E6-3032-4C06-BCF7-F7363F24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4051D-FA6A-49D4-80C8-8FE74C6F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37047-8604-464D-AE6C-008A7EA5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5819F-6D8F-4849-A722-E7A95038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6AC23-6994-4AA6-983F-C2AC26C1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2b2b2"/>
                        </a:solidFill>
                        <a:ln w="936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4E8C-E822-4B21-972D-7FC267F8AD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7200e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E98C-952A-4689-BCEF-AAE9A0CB2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5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75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6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3274-210E-4D2D-B507-E51DE9C3F8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0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0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992F-ECF5-4D3A-9E17-F1AC00FDE9A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100000">
              <a:srgbClr val="6b6b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5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5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6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9c9"/>
                  </a:gs>
                  <a:gs pos="100000">
                    <a:srgbClr val="d1d1d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50000">
                    <a:srgbClr val="d1d1d1"/>
                  </a:gs>
                  <a:gs pos="100000">
                    <a:srgbClr val="bdbdb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4E95-FC5F-45C8-9DC8-E1120F1533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200e4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200e4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100000">
              <a:srgbClr val="6b6b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4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4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5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9c9"/>
                  </a:gs>
                  <a:gs pos="100000">
                    <a:srgbClr val="d1d1d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50000">
                    <a:srgbClr val="d1d1d1"/>
                  </a:gs>
                  <a:gs pos="100000">
                    <a:srgbClr val="bdbdb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173A-ABE7-4EC3-B411-12F3616DB40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200e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3EB5-9162-4D5F-8537-3418EA38F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09F2-C55D-4797-9B04-F21F8E3D9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5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cc7d7"/>
                </a:gs>
                <a:gs pos="50000">
                  <a:srgbClr val="ccecff"/>
                </a:gs>
                <a:gs pos="100000">
                  <a:srgbClr val="acc7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5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5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5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6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6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7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7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9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EE43-0A3B-45F8-BFD5-20E3C0352D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4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cc7d7"/>
                </a:gs>
                <a:gs pos="50000">
                  <a:srgbClr val="ccecff"/>
                </a:gs>
                <a:gs pos="100000">
                  <a:srgbClr val="acc7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5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5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5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6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7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7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9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E5CA-1CEB-4027-9F97-16BD03E9E7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4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fefbf"/>
                </a:gs>
                <a:gs pos="50000">
                  <a:srgbClr val="ffffcc"/>
                </a:gs>
                <a:gs pos="100000">
                  <a:srgbClr val="efef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A6E7-783E-4474-B53C-A76203BEEF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2b2b2"/>
                        </a:solidFill>
                        <a:ln w="936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4A3A-605E-4324-BFBE-46DADD8D06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200e4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60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fefbf"/>
                </a:gs>
                <a:gs pos="50000">
                  <a:srgbClr val="ffffcc"/>
                </a:gs>
                <a:gs pos="100000">
                  <a:srgbClr val="efef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0EFE-B953-4363-BFE8-854982F5194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BF5C-11F0-4E6A-9CE9-C9822A16F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FA41-1C13-47C7-A360-C75721863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21d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73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477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88e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029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39cc"/>
                </a:gs>
                <a:gs pos="100000">
                  <a:srgbClr val="ff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a1b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57d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123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3ece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21a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45cf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7d82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68388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a1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b18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21d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c828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b8249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45cf"/>
                  </a:gs>
                  <a:gs pos="100000">
                    <a:srgbClr val="ff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C3B4-B3CD-4646-9039-E8B12DD17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21d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1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477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88e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029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39cc"/>
                </a:gs>
                <a:gs pos="100000">
                  <a:srgbClr val="ff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a1b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57d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123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3ece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21a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45cf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7d82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68388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a1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b18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21d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c828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85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b8249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45cf"/>
                  </a:gs>
                  <a:gs pos="100000">
                    <a:srgbClr val="ff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42F0-EDAC-45A8-A1FE-B297A642E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8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899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7517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4c0f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70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7b1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821a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4" name="PlaceHolder 1"/>
          <p:cNvSpPr>
            <a:spLocks noGrp="1"/>
          </p:cNvSpPr>
          <p:nvPr>
            <p:ph type="sldNum" idx="7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0ABE-4639-47E6-B844-DE127788D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dt" idx="7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ftr" idx="7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b18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5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156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7517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4c0f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70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7b1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821a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0E4B-9A17-4D3E-B664-C6BE44730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41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41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41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41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42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42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42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42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43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43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43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43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4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4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4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5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5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5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6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6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6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7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7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7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8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8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8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9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49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49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0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50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50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51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51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51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51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52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849A-0EFD-4353-B4AE-B5987B44DC0F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8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58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59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59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59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59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59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60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60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60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61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61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61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61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62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62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62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3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3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3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64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64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64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64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65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65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65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6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66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66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66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7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7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68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68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68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69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69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9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69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69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70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AA91-0C18-49AC-B941-D712BC3CC4B7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A0EF-F08E-4BBE-A138-CEB1D8503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4196-AD13-47C9-95A0-58B08133E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8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6789-BACD-4C73-93ED-47604C03A5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7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ECE2-8AB8-4A5E-8973-BAFF4DC56A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2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7AB0-8C07-402D-99FC-0F13BC0698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0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1982-F285-4DDC-A657-9CB6B5EA21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1448-D869-4867-BAD5-D27DA96AD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9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4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gif"/><Relationship Id="rId6" Type="http://schemas.openxmlformats.org/officeDocument/2006/relationships/image" Target="../media/image38.wmf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21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6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1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9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gi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А нужна ли нам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2910960" y="1676160"/>
            <a:ext cx="34801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Семья</a:t>
            </a: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2" name="" descr=""/>
          <p:cNvPicPr/>
          <p:nvPr/>
        </p:nvPicPr>
        <p:blipFill>
          <a:blip r:embed="rId2"/>
          <a:stretch/>
        </p:blipFill>
        <p:spPr>
          <a:xfrm>
            <a:off x="3733920" y="4191120"/>
            <a:ext cx="145080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7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cc33"/>
                </a:solidFill>
                <a:latin typeface="Tahoma"/>
              </a:rPr>
              <a:t>А если у тебя есть семья</a:t>
            </a:r>
            <a:r>
              <a:rPr b="0" lang="en-US" sz="7200" spc="-1" strike="noStrike">
                <a:solidFill>
                  <a:srgbClr val="33cc33"/>
                </a:solidFill>
                <a:latin typeface="Tahoma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22960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f42ec"/>
                </a:solidFill>
                <a:latin typeface="Arial"/>
              </a:rPr>
              <a:t>Ты можешь добиться того же ,что и без семьи, но придя домой ты заметишь</a:t>
            </a:r>
            <a:r>
              <a:rPr b="0" lang="en-US" sz="5400" spc="-1" strike="noStrike">
                <a:solidFill>
                  <a:srgbClr val="7f42ec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9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1841760" cy="1654200"/>
          </a:xfrm>
          <a:prstGeom prst="rect">
            <a:avLst/>
          </a:prstGeom>
          <a:ln w="0">
            <a:noFill/>
          </a:ln>
        </p:spPr>
      </p:pic>
      <p:pic>
        <p:nvPicPr>
          <p:cNvPr id="2790" name="" descr=""/>
          <p:cNvPicPr/>
          <p:nvPr/>
        </p:nvPicPr>
        <p:blipFill>
          <a:blip r:embed="rId3"/>
          <a:stretch/>
        </p:blipFill>
        <p:spPr>
          <a:xfrm>
            <a:off x="3505320" y="380880"/>
            <a:ext cx="2119320" cy="2133720"/>
          </a:xfrm>
          <a:prstGeom prst="rect">
            <a:avLst/>
          </a:prstGeom>
          <a:ln w="0">
            <a:noFill/>
          </a:ln>
        </p:spPr>
      </p:pic>
      <p:pic>
        <p:nvPicPr>
          <p:cNvPr id="2791" name="" descr=""/>
          <p:cNvPicPr/>
          <p:nvPr/>
        </p:nvPicPr>
        <p:blipFill>
          <a:blip r:embed="rId4"/>
          <a:stretch/>
        </p:blipFill>
        <p:spPr>
          <a:xfrm>
            <a:off x="6705720" y="533520"/>
            <a:ext cx="1827000" cy="1827000"/>
          </a:xfrm>
          <a:prstGeom prst="rect">
            <a:avLst/>
          </a:prstGeom>
          <a:ln w="0">
            <a:noFill/>
          </a:ln>
        </p:spPr>
      </p:pic>
      <p:pic>
        <p:nvPicPr>
          <p:cNvPr id="2792" name="" descr=""/>
          <p:cNvPicPr/>
          <p:nvPr/>
        </p:nvPicPr>
        <p:blipFill>
          <a:blip r:embed="rId5"/>
          <a:stretch/>
        </p:blipFill>
        <p:spPr>
          <a:xfrm>
            <a:off x="685800" y="3505320"/>
            <a:ext cx="1979640" cy="2361960"/>
          </a:xfrm>
          <a:prstGeom prst="rect">
            <a:avLst/>
          </a:prstGeom>
          <a:ln w="0">
            <a:noFill/>
          </a:ln>
        </p:spPr>
      </p:pic>
      <p:pic>
        <p:nvPicPr>
          <p:cNvPr id="2793" name="" descr=""/>
          <p:cNvPicPr/>
          <p:nvPr/>
        </p:nvPicPr>
        <p:blipFill>
          <a:blip r:embed="rId6"/>
          <a:stretch/>
        </p:blipFill>
        <p:spPr>
          <a:xfrm>
            <a:off x="3505320" y="3886200"/>
            <a:ext cx="1814400" cy="1528920"/>
          </a:xfrm>
          <a:prstGeom prst="rect">
            <a:avLst/>
          </a:prstGeom>
          <a:ln w="0">
            <a:noFill/>
          </a:ln>
        </p:spPr>
      </p:pic>
      <p:pic>
        <p:nvPicPr>
          <p:cNvPr id="2794" name="" descr=""/>
          <p:cNvPicPr/>
          <p:nvPr/>
        </p:nvPicPr>
        <p:blipFill>
          <a:blip r:embed="rId7"/>
          <a:stretch/>
        </p:blipFill>
        <p:spPr>
          <a:xfrm>
            <a:off x="6400800" y="3733920"/>
            <a:ext cx="2209680" cy="1814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21d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cc"/>
                </a:solidFill>
                <a:latin typeface="Arial"/>
              </a:rPr>
              <a:t>А еще у тебя могут быть дети</a:t>
            </a:r>
            <a:r>
              <a:rPr b="0" lang="en-US" sz="7200" spc="-1" strike="noStrike">
                <a:solidFill>
                  <a:srgbClr val="ffffcc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96" name="" descr=""/>
          <p:cNvPicPr/>
          <p:nvPr/>
        </p:nvPicPr>
        <p:blipFill>
          <a:blip r:embed="rId1"/>
          <a:stretch/>
        </p:blipFill>
        <p:spPr>
          <a:xfrm>
            <a:off x="3733920" y="3962520"/>
            <a:ext cx="1450800" cy="1823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И ты поймешь ,что твоя жизнь прожита не зр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27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bb4eb"/>
                </a:solidFill>
                <a:latin typeface="Garamond"/>
              </a:rPr>
              <a:t>В любой момент тебе могут помочь!</a:t>
            </a: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Arial Black"/>
              </a:rPr>
              <a:t>Теперь ты можешь наслаждаться жизнью!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ff"/>
                </a:solidFill>
                <a:latin typeface="Arial Black"/>
              </a:rPr>
              <a:t>Семья – это ячейка общества. Создай свою и живи спокойно!</a:t>
            </a:r>
            <a:r>
              <a:rPr b="0" lang="en-US" sz="4000" spc="-1" strike="noStrike">
                <a:solidFill>
                  <a:srgbClr val="00ffff"/>
                </a:solidFill>
                <a:latin typeface="Arial Black"/>
              </a:rPr>
              <a:t>   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837720" y="10666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700" spc="-1" strike="noStrike">
                <a:solidFill>
                  <a:srgbClr val="666699"/>
                </a:solidFill>
                <a:latin typeface="Arial Unicode MS"/>
              </a:rPr>
              <a:t>Что ты оставишь после себя</a:t>
            </a:r>
            <a:r>
              <a:rPr b="0" lang="en-US" sz="7700" spc="-1" strike="noStrike">
                <a:solidFill>
                  <a:srgbClr val="666699"/>
                </a:solidFill>
                <a:latin typeface="Arial Unicode MS"/>
              </a:rPr>
              <a:t>?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4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1474920" cy="1817640"/>
          </a:xfrm>
          <a:prstGeom prst="rect">
            <a:avLst/>
          </a:prstGeom>
          <a:ln w="0">
            <a:noFill/>
          </a:ln>
        </p:spPr>
      </p:pic>
      <p:pic>
        <p:nvPicPr>
          <p:cNvPr id="2765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2766" name=""/>
          <p:cNvSpPr/>
          <p:nvPr/>
        </p:nvSpPr>
        <p:spPr>
          <a:xfrm rot="727200">
            <a:off x="1600200" y="9907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6699"/>
                </a:solidFill>
                <a:latin typeface="Arial"/>
              </a:rPr>
              <a:t>Разруху и ужас</a:t>
            </a:r>
            <a:r>
              <a:rPr b="0" lang="en-US" sz="6600" spc="-1" strike="noStrike">
                <a:solidFill>
                  <a:srgbClr val="666699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7" name="" descr=""/>
          <p:cNvPicPr/>
          <p:nvPr/>
        </p:nvPicPr>
        <p:blipFill>
          <a:blip r:embed="rId3"/>
          <a:stretch/>
        </p:blipFill>
        <p:spPr>
          <a:xfrm>
            <a:off x="5867280" y="4343400"/>
            <a:ext cx="1825920" cy="146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34417"/>
                </a:solidFill>
                <a:latin typeface="Arial"/>
              </a:rPr>
              <a:t>Или жизнь и процветание</a:t>
            </a:r>
            <a:r>
              <a:rPr b="0" lang="en-US" sz="4400" spc="-1" strike="noStrike">
                <a:solidFill>
                  <a:srgbClr val="d34417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057400" cy="1760760"/>
          </a:xfrm>
          <a:prstGeom prst="rect">
            <a:avLst/>
          </a:prstGeom>
          <a:ln w="0">
            <a:noFill/>
          </a:ln>
        </p:spPr>
      </p:pic>
      <p:pic>
        <p:nvPicPr>
          <p:cNvPr id="2770" name="" descr=""/>
          <p:cNvPicPr/>
          <p:nvPr/>
        </p:nvPicPr>
        <p:blipFill>
          <a:blip r:embed="rId2"/>
          <a:stretch/>
        </p:blipFill>
        <p:spPr>
          <a:xfrm>
            <a:off x="3505320" y="289548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5562720" y="4267080"/>
            <a:ext cx="2666880" cy="176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38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bbbbf"/>
                </a:solidFill>
                <a:latin typeface="Arial"/>
              </a:rPr>
              <a:t>Мы знаем ,что без семьи ты можешь стать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781280" cy="2209680"/>
          </a:xfrm>
          <a:prstGeom prst="rect">
            <a:avLst/>
          </a:prstGeom>
          <a:ln w="0">
            <a:noFill/>
          </a:ln>
        </p:spPr>
      </p:pic>
      <p:pic>
        <p:nvPicPr>
          <p:cNvPr id="2774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775" name="" descr=""/>
          <p:cNvPicPr/>
          <p:nvPr/>
        </p:nvPicPr>
        <p:blipFill>
          <a:blip r:embed="rId3"/>
          <a:stretch/>
        </p:blipFill>
        <p:spPr>
          <a:xfrm>
            <a:off x="6172200" y="685800"/>
            <a:ext cx="1889280" cy="1917720"/>
          </a:xfrm>
          <a:prstGeom prst="rect">
            <a:avLst/>
          </a:prstGeom>
          <a:ln w="0">
            <a:noFill/>
          </a:ln>
        </p:spPr>
      </p:pic>
      <p:pic>
        <p:nvPicPr>
          <p:cNvPr id="2776" name="" descr=""/>
          <p:cNvPicPr/>
          <p:nvPr/>
        </p:nvPicPr>
        <p:blipFill>
          <a:blip r:embed="rId4"/>
          <a:stretch/>
        </p:blipFill>
        <p:spPr>
          <a:xfrm>
            <a:off x="914400" y="3733920"/>
            <a:ext cx="1163520" cy="1827000"/>
          </a:xfrm>
          <a:prstGeom prst="rect">
            <a:avLst/>
          </a:prstGeom>
          <a:ln w="0">
            <a:noFill/>
          </a:ln>
        </p:spPr>
      </p:pic>
      <p:pic>
        <p:nvPicPr>
          <p:cNvPr id="2777" name="" descr=""/>
          <p:cNvPicPr/>
          <p:nvPr/>
        </p:nvPicPr>
        <p:blipFill>
          <a:blip r:embed="rId5"/>
          <a:stretch/>
        </p:blipFill>
        <p:spPr>
          <a:xfrm>
            <a:off x="3505320" y="914400"/>
            <a:ext cx="1904760" cy="1436760"/>
          </a:xfrm>
          <a:prstGeom prst="rect">
            <a:avLst/>
          </a:prstGeom>
          <a:ln w="0">
            <a:noFill/>
          </a:ln>
        </p:spPr>
      </p:pic>
      <p:pic>
        <p:nvPicPr>
          <p:cNvPr id="2778" name="" descr=""/>
          <p:cNvPicPr/>
          <p:nvPr/>
        </p:nvPicPr>
        <p:blipFill>
          <a:blip r:embed="rId6"/>
          <a:stretch/>
        </p:blipFill>
        <p:spPr>
          <a:xfrm>
            <a:off x="6248520" y="3429000"/>
            <a:ext cx="1807920" cy="1914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842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151b8"/>
                </a:solidFill>
                <a:latin typeface="Arial"/>
              </a:rPr>
              <a:t>В общем очень успешным человеком!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Но кто будет ждать тебя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2" dur="2000" fill="hold"/>
                                        <p:tgtEl>
                                          <p:spTgt spid="2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100000">
              <a:srgbClr val="6b6b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2782" name="" descr=""/>
          <p:cNvPicPr/>
          <p:nvPr/>
        </p:nvPicPr>
        <p:blipFill>
          <a:blip r:embed="rId2"/>
          <a:stretch/>
        </p:blipFill>
        <p:spPr>
          <a:xfrm>
            <a:off x="6705720" y="3809880"/>
            <a:ext cx="1761840" cy="1827360"/>
          </a:xfrm>
          <a:prstGeom prst="rect">
            <a:avLst/>
          </a:prstGeom>
          <a:ln w="0">
            <a:noFill/>
          </a:ln>
        </p:spPr>
      </p:pic>
      <p:pic>
        <p:nvPicPr>
          <p:cNvPr id="2783" name="" descr=""/>
          <p:cNvPicPr/>
          <p:nvPr/>
        </p:nvPicPr>
        <p:blipFill>
          <a:blip r:embed="rId3"/>
          <a:stretch/>
        </p:blipFill>
        <p:spPr>
          <a:xfrm>
            <a:off x="3733920" y="533520"/>
            <a:ext cx="2319120" cy="2260440"/>
          </a:xfrm>
          <a:prstGeom prst="rect">
            <a:avLst/>
          </a:prstGeom>
          <a:ln w="0">
            <a:noFill/>
          </a:ln>
        </p:spPr>
      </p:pic>
      <p:pic>
        <p:nvPicPr>
          <p:cNvPr id="2784" name="" descr=""/>
          <p:cNvPicPr/>
          <p:nvPr/>
        </p:nvPicPr>
        <p:blipFill>
          <a:blip r:embed="rId4"/>
          <a:stretch/>
        </p:blipFill>
        <p:spPr>
          <a:xfrm>
            <a:off x="6862680" y="461880"/>
            <a:ext cx="1952640" cy="2076480"/>
          </a:xfrm>
          <a:prstGeom prst="rect">
            <a:avLst/>
          </a:prstGeom>
          <a:ln w="0">
            <a:noFill/>
          </a:ln>
        </p:spPr>
      </p:pic>
      <p:pic>
        <p:nvPicPr>
          <p:cNvPr id="2785" name="" descr=""/>
          <p:cNvPicPr/>
          <p:nvPr/>
        </p:nvPicPr>
        <p:blipFill>
          <a:blip r:embed="rId5"/>
          <a:stretch/>
        </p:blipFill>
        <p:spPr>
          <a:xfrm>
            <a:off x="990720" y="4495680"/>
            <a:ext cx="1827000" cy="111132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600200" cy="1808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арин</cp:lastModifiedBy>
  <dcterms:modified xsi:type="dcterms:W3CDTF">2008-11-18T07:46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