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A1A6-CF69-4C5F-9971-550F49F2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B56-274A-4EB4-AE77-24D522A2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C73-D1CB-448B-97F6-C36F870E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7BE-0646-4EBF-AEE9-A068E71F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DD76-4C07-4779-AFBE-12D30EE1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3C84-9633-47A0-ABC1-10156635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10AC-8EDA-4521-BD5F-7C00312E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B988-1070-4201-81F3-D71D8618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BA16-FF70-44F2-81A5-32F6E482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C8A5-A26B-4384-A486-AD501931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FBCE-5243-4246-87F6-8F117D1B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048-0BBA-4D0C-851E-0A85AED3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1B0D-A0B3-47DE-9752-56DAC1EC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FFCA-ABA3-4DB2-A718-7273B01A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FAED-E677-47BE-AEFB-F5A9874D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FA41-3C4A-41B4-93FA-6C13188E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BFAA-49E7-40F2-933A-394E024A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12F-ABAC-4072-BADA-CF45F9AB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BEE-03C3-45A4-AD85-02ECDD77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D0C-C170-4944-A351-EFA9D38A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6B5-F707-4851-850D-F0A2C8CB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D1E-4E8B-4C9B-9433-F7AB6C32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545-D5BA-49EF-A993-595336A2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C516-22BC-4611-907D-28810F98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0059-6E15-4976-BF9C-211661DC5F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74C6-75D0-4BCC-B86F-1FD33FC742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mochka.kz/_media/bb6df157e9c74472139201a108283bcc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5"/>
          <p:cNvSpPr txBox="1"/>
          <p:nvPr/>
        </p:nvSpPr>
        <p:spPr>
          <a:xfrm>
            <a:off x="1285920" y="1214280"/>
            <a:ext cx="64818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Курение и здоров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будущего поко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060280"/>
            <a:ext cx="41097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Самый большой вред курение наносит нерожденным детям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5l"/>
          <p:cNvPicPr/>
          <p:nvPr/>
        </p:nvPicPr>
        <p:blipFill>
          <a:blip r:embed="rId1"/>
          <a:stretch/>
        </p:blipFill>
        <p:spPr>
          <a:xfrm>
            <a:off x="4932360" y="2060640"/>
            <a:ext cx="3511440" cy="3529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4572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есь никотин, угарный газ, бенз/а/пирен и даже некоторые радиоактивные вещества из сигарет, попадая в организм беременной женщины, после первой же затяжки моментально проникают сквозь плаценту к ребенк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788000" y="1828800"/>
            <a:ext cx="389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Концентрация всех этих веществ в организме плода гораздо выше, чем крови матери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1l"/>
          <p:cNvPicPr/>
          <p:nvPr/>
        </p:nvPicPr>
        <p:blipFill>
          <a:blip r:embed="rId1"/>
          <a:stretch/>
        </p:blipFill>
        <p:spPr>
          <a:xfrm>
            <a:off x="684360" y="1916280"/>
            <a:ext cx="3816360" cy="3797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50920" y="630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76720" y="182880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От никотина возникает спазм сосудов плаценты, и у ребенка возникает кислородное голодание. Ядовитые вещества действуют на все его нежные органы, мешают малышу нормально развиваться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(30 Kb)"/>
          <p:cNvPicPr/>
          <p:nvPr/>
        </p:nvPicPr>
        <p:blipFill>
          <a:blip r:embed="rId1"/>
          <a:stretch/>
        </p:blipFill>
        <p:spPr>
          <a:xfrm>
            <a:off x="539640" y="549360"/>
            <a:ext cx="2476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932000" y="549360"/>
            <a:ext cx="375444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инство детей, рожденных курильщицами, появляются на свет с низким весом, часто болеют, развиваются медленнее, чем их сверстники, чаще умирают в детств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1174147079_7_9"/>
          <p:cNvPicPr/>
          <p:nvPr/>
        </p:nvPicPr>
        <p:blipFill>
          <a:blip r:embed="rId1"/>
          <a:stretch/>
        </p:blipFill>
        <p:spPr>
          <a:xfrm>
            <a:off x="611280" y="549360"/>
            <a:ext cx="4286160" cy="42861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6"/>
          <p:cNvSpPr/>
          <p:nvPr/>
        </p:nvSpPr>
        <p:spPr>
          <a:xfrm>
            <a:off x="612360" y="50864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18608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Статистика показывает: курение (независимо от количества выкуриваемых сигарет) во время беременности увеличивает риск ее неблагоприятного завершения почти в 2 раза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6"/>
          <p:cNvPicPr/>
          <p:nvPr/>
        </p:nvPicPr>
        <p:blipFill>
          <a:blip r:embed="rId1"/>
          <a:stretch/>
        </p:blipFill>
        <p:spPr>
          <a:xfrm>
            <a:off x="611280" y="1989000"/>
            <a:ext cx="3889440" cy="36212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24000" y="6310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яснилось, что никотин плохо действует не только на физическое, но и на психическое состояние будущего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мецкие ученые доказали, что для детей курящих матерей уже в раннем возрасте характерны невнимательность, импульсивность и бесполезная сверхактивность, даже уровень умственного развития у них ниже средне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788000" y="1828800"/>
            <a:ext cx="389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Чаще всего развивается и так называемый </a:t>
            </a:r>
            <a:r>
              <a:rPr b="0" lang="ru-RU" sz="3100" spc="-1" strike="noStrike">
                <a:solidFill>
                  <a:srgbClr val="ffff00"/>
                </a:solidFill>
                <a:latin typeface="Times New Roman"/>
              </a:rPr>
              <a:t>синдром «непоседы Фила» 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— эти дети, как правило, агрессивны и склонны к обману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4l"/>
          <p:cNvPicPr/>
          <p:nvPr/>
        </p:nvPicPr>
        <p:blipFill>
          <a:blip r:embed="rId1"/>
          <a:stretch/>
        </p:blipFill>
        <p:spPr>
          <a:xfrm>
            <a:off x="539640" y="1916280"/>
            <a:ext cx="365616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Английские врачи пришли к выводу, что у детей, чьи матери курили во время беременности, на 40% повышается риск развития аутизма, психической болезни, при которой человек не может контрактовать с окружающей действительностью и ориентируется на мир собственных переживаний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4360" y="2852640"/>
            <a:ext cx="785952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это заболевание, состояние психики, когда человек отстранен от внешнего мира и погружен в себ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684360" y="765000"/>
            <a:ext cx="431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ут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1536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Человек часто сам себе злейший враг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5" descr="(40 Kb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89000"/>
            <a:ext cx="554508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ченые предположили, что во всем виновато недостаточное снабжение мозга зародыша кислородом. Кроме того, не исключено, что в никотин влияет на особые гены, отвечающие за психомоторные функц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еждународная группа исследователей из университета Эмори в Атланте (штат Джорджия) обнаружила связь между курением беременных и последующей склонностью детей к преступ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427280" y="1828800"/>
            <a:ext cx="4259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В 2003 году британские ученые выявили зависимость курения на раннем этапе беременности и рождением ребенка с расщелиной лица.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1115578166_01_168_2_s"/>
          <p:cNvPicPr/>
          <p:nvPr/>
        </p:nvPicPr>
        <p:blipFill>
          <a:blip r:embed="rId1"/>
          <a:stretch/>
        </p:blipFill>
        <p:spPr>
          <a:xfrm>
            <a:off x="468360" y="22176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97080" y="535140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691920"/>
            <a:ext cx="81532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 словам автора проведенного исследования Питера Мосси (профессора стоматологического факультета университета в Данди), формирование неба происходит на 6-8 неделе беременности, и курение будущей мамы в этот период может проявиться в виде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волчьей пасти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заячьей губы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у 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39640" y="692280"/>
            <a:ext cx="815364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 словам автора проведенного исследования Питера Мосси (профессора стоматологического факультета университета в Данди), формирование неба происходит на 6-8 неделе беременности, и курение будущей мамы в этот период может проявиться в виде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волчьей пасти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или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«заячьей губы»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у 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160" y="1828800"/>
            <a:ext cx="4686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рождённый порок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тия, заключающийся в незаращении верхней челюсти и твёрдого нёба, в результате чего получается расщелина, соединяющая полости рта и но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1116000" y="765000"/>
            <a:ext cx="46418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Волчья паст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2" name="Picture 6" descr="волчья пасть"/>
          <p:cNvPicPr/>
          <p:nvPr/>
        </p:nvPicPr>
        <p:blipFill>
          <a:blip r:embed="rId1"/>
          <a:stretch/>
        </p:blipFill>
        <p:spPr>
          <a:xfrm>
            <a:off x="5576760" y="1916280"/>
            <a:ext cx="3024360" cy="3960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4356000" y="630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851280" y="1828800"/>
            <a:ext cx="483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imes New Roman"/>
              </a:rPr>
              <a:t>Заячья губа,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 устаревшее название одного из пороков</a:t>
            </a:r>
            <a:r>
              <a:rPr b="0" lang="ru-RU" sz="31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развития</a:t>
            </a:r>
            <a:r>
              <a:rPr b="0" i="1" lang="ru-RU" sz="31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ru-RU" sz="3100" spc="-1" strike="noStrike">
                <a:solidFill>
                  <a:srgbClr val="ffffff"/>
                </a:solidFill>
                <a:latin typeface="Times New Roman"/>
              </a:rPr>
              <a:t> состоящего в несращении боковых частей верхней губы с её средней частью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755640" y="620640"/>
            <a:ext cx="56894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"Заячья губ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6" name="Picture 6" descr="заячья губа"/>
          <p:cNvPicPr/>
          <p:nvPr/>
        </p:nvPicPr>
        <p:blipFill>
          <a:blip r:embed="rId1"/>
          <a:stretch/>
        </p:blipFill>
        <p:spPr>
          <a:xfrm>
            <a:off x="539640" y="1844640"/>
            <a:ext cx="297036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395280" y="631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2% матерей, дети которых родились с дефектом лица, курили, будучи беременным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 некурящих матерей такие «неправильные» дети рождались в два раза реже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520" y="549360"/>
            <a:ext cx="81532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мериканские исследователи доказали, что у женщин, куривших во время беременности, риск косолапости среди таких детей выше на 34%. А если к тому же курение матери сочетается с наследственным фактором, то риск косолапости возрастает в 20 раз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Дети женщин, куривших во время беременности, на треть чаще, чем все остальные, рискуют к 16 годам заполучить диабет или ожирение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2. У мальчиков, родившихся у курящих матерей, яички имеют меньшие размеры, а концентрация сперматозоидов в сперме в среднем на 20% ниже, чем у детей некурящи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ни парадоксально, о вреде курения человечество узнало только в 50-х годах XX века, а до этого даже врачи были на сто процентов уверены, что табак абсолютно безвреден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3. Дети матерей, куривших во время беременности, в несколько раз чаще сами начинают курить, чем дети, чьи матери во время беременности не курил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АМЫЕ СВЕЖИЕ НОВОСТ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00720" y="1828800"/>
            <a:ext cx="418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Бросить курить еще до начала беременности — единственный способ родить здорового ребенк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8l"/>
          <p:cNvPicPr/>
          <p:nvPr/>
        </p:nvPicPr>
        <p:blipFill>
          <a:blip r:embed="rId1"/>
          <a:stretch/>
        </p:blipFill>
        <p:spPr>
          <a:xfrm>
            <a:off x="611280" y="1916280"/>
            <a:ext cx="3870360" cy="3889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25080" y="63104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Дет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images10"/>
          <p:cNvPicPr/>
          <p:nvPr/>
        </p:nvPicPr>
        <p:blipFill>
          <a:blip r:embed="rId2"/>
          <a:stretch/>
        </p:blipFill>
        <p:spPr>
          <a:xfrm>
            <a:off x="6516720" y="33336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 середине 1920-х годов молодое советское правительство выпустило агитационный плакат с предупреждением: «Курящие школьники учатся хуже некурящих»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Лишь в 1956 году выяснилось, что заядлые курильщики во много раз чаще некурящих болеют сердечно-сосудистыми и легочными заболеваниями, а также раком легких.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356000" y="2204640"/>
            <a:ext cx="43308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ксперименты на животных доказали, что звери от табака гибнут. Видимо, именно тогда возникло выражение: «Капля никотина убивает лошадь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camel"/>
          <p:cNvPicPr/>
          <p:nvPr/>
        </p:nvPicPr>
        <p:blipFill>
          <a:blip r:embed="rId1"/>
          <a:stretch/>
        </p:blipFill>
        <p:spPr>
          <a:xfrm>
            <a:off x="611280" y="620640"/>
            <a:ext cx="344808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284720" y="404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ИКОТИН УБИВАЕТ НЕ ТОЛЬКО ЛОШАД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764640"/>
            <a:ext cx="8153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икотин - один из самых опасных ядов растительного происхожд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тицы (воробьи, голуби) погибают, если к их клюву всего лишь поднести стеклянную палочку, смоченную никотин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ролик погибает от 1/4 капли никотина, собака - от 1/2 капли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Для человека смертельная доза никотина составляет от 50 до 100 мг, или 2-3 кап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казалось, что от курения страдают не только легкие, бронхи и сердце, но и ухудшается работа желез внутренней секреции, нарушается пищеварение, портится характер и зубы, снижается потенц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7:57:59Z</dcterms:created>
  <dc:creator>Долгорукова</dc:creator>
  <dc:description/>
  <dc:language>en-US</dc:language>
  <cp:lastModifiedBy>inform_2</cp:lastModifiedBy>
  <dcterms:modified xsi:type="dcterms:W3CDTF">2010-04-06T04:48:09Z</dcterms:modified>
  <cp:revision>23</cp:revision>
  <dc:subject/>
  <dc:title>Слайд 1</dc:title>
</cp:coreProperties>
</file>