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AA9-61DD-44D3-9DB0-BE96B604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635-825F-4385-946D-177561B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D1A-0541-4A19-9E51-BDF31578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E27-C51F-43D9-9153-9A8F03D3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DE8-9E4D-4DAD-BF04-A16ED48E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47FA-B1C1-479B-BC4D-ED7D1B1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22F1-E890-4769-A474-38EF929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413-7F0E-4B4C-A470-8874D260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B6E-D427-4EA2-87B7-E7E5CF0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925B-E953-4494-AD27-27CBA68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293-AEC8-4543-B51B-EFA2CDF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43C-5706-40D7-A119-F9E409AF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37D2-1420-4ED4-BB21-79A34CC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5F4B-DCD0-44B4-B9B0-BAB9313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7D2-3EF9-4E69-9EDB-61436EC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0A2-6BEC-4CFA-8DBC-F9F53653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6987-D738-4C51-860C-B36AC50D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CC4-DF41-471C-9348-6677C8E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DF7-DCD0-4522-B6B4-C96F71F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D54-D478-498C-A3C9-D6DDAB95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ACA-BBC1-4696-BF73-37ACE14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D6F-2C12-4ADD-B3FD-FE3F58D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CDD-E147-46B3-88BF-A09D243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B4C-9DF9-4385-A127-7859765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383D-A857-4C84-8182-E27434554A0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4FF2-89C2-4155-AB29-F33A1FE7151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900000" y="1989000"/>
            <a:ext cx="7486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Здоровье и наркотики»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64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684360" y="40464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867280" y="40464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Боле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114" name="Picture 13" descr="J0282741"/>
          <p:cNvPicPr/>
          <p:nvPr/>
        </p:nvPicPr>
        <p:blipFill>
          <a:blip r:embed="rId1"/>
          <a:stretch/>
        </p:blipFill>
        <p:spPr>
          <a:xfrm>
            <a:off x="6588000" y="407664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223734"/>
          <p:cNvPicPr/>
          <p:nvPr/>
        </p:nvPicPr>
        <p:blipFill>
          <a:blip r:embed="rId2"/>
          <a:stretch/>
        </p:blipFill>
        <p:spPr>
          <a:xfrm>
            <a:off x="1476360" y="5445000"/>
            <a:ext cx="1728720" cy="103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223737"/>
          <p:cNvPicPr/>
          <p:nvPr/>
        </p:nvPicPr>
        <p:blipFill>
          <a:blip r:embed="rId3"/>
          <a:stretch/>
        </p:blipFill>
        <p:spPr>
          <a:xfrm>
            <a:off x="7380360" y="5229360"/>
            <a:ext cx="137160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J0178108"/>
          <p:cNvPicPr/>
          <p:nvPr/>
        </p:nvPicPr>
        <p:blipFill>
          <a:blip r:embed="rId4"/>
          <a:stretch/>
        </p:blipFill>
        <p:spPr>
          <a:xfrm>
            <a:off x="468360" y="450864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12[1]"/>
          <p:cNvPicPr/>
          <p:nvPr/>
        </p:nvPicPr>
        <p:blipFill>
          <a:blip r:embed="rId5"/>
          <a:stretch/>
        </p:blipFill>
        <p:spPr>
          <a:xfrm>
            <a:off x="7885080" y="3716280"/>
            <a:ext cx="792360" cy="5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J0236462"/>
          <p:cNvPicPr/>
          <p:nvPr/>
        </p:nvPicPr>
        <p:blipFill>
          <a:blip r:embed="rId6"/>
          <a:stretch/>
        </p:blipFill>
        <p:spPr>
          <a:xfrm>
            <a:off x="900000" y="3068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4"/>
          <p:cNvSpPr txBox="1"/>
          <p:nvPr/>
        </p:nvSpPr>
        <p:spPr>
          <a:xfrm>
            <a:off x="2050920" y="2205000"/>
            <a:ext cx="51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Ассоци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2700000" y="3141720"/>
            <a:ext cx="934920" cy="1150920"/>
          </a:xfrm>
          <a:prstGeom prst="line">
            <a:avLst/>
          </a:prstGeom>
          <a:ln w="6048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292720" y="3213000"/>
            <a:ext cx="1079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4332240" y="3068640"/>
            <a:ext cx="347760" cy="330048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4" name="Picture 30" descr="7[1]"/>
          <p:cNvPicPr/>
          <p:nvPr/>
        </p:nvPicPr>
        <p:blipFill>
          <a:blip r:embed="rId7"/>
          <a:stretch/>
        </p:blipFill>
        <p:spPr>
          <a:xfrm rot="5400000">
            <a:off x="2054160" y="16254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7[1]"/>
          <p:cNvPicPr/>
          <p:nvPr/>
        </p:nvPicPr>
        <p:blipFill>
          <a:blip r:embed="rId8"/>
          <a:stretch/>
        </p:blipFill>
        <p:spPr>
          <a:xfrm rot="5400000">
            <a:off x="6156000" y="1628640"/>
            <a:ext cx="11523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 буду и денег добуду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дороже денег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 здоровом теле - здоровый дух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Чистота - залог здоровья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з болезни и здоровью не ра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реги платье снову, а здоровье смолод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971640" y="260280"/>
            <a:ext cx="70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словицы и поговор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о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Зависимость от наркотиков- боле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24000" y="3500280"/>
            <a:ext cx="3311280" cy="2016360"/>
          </a:xfrm>
          <a:prstGeom prst="ellipse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Эйфор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и удовольствие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1341360"/>
            <a:ext cx="3095640" cy="1150920"/>
          </a:xfrm>
          <a:prstGeom prst="rect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ачал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1" name="Picture 6" descr="2"/>
          <p:cNvPicPr/>
          <p:nvPr/>
        </p:nvPicPr>
        <p:blipFill>
          <a:blip r:embed="rId1"/>
          <a:stretch/>
        </p:blipFill>
        <p:spPr>
          <a:xfrm rot="2868600">
            <a:off x="1204200" y="290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"/>
          <p:cNvPicPr/>
          <p:nvPr/>
        </p:nvPicPr>
        <p:blipFill>
          <a:blip r:embed="rId2"/>
          <a:stretch/>
        </p:blipFill>
        <p:spPr>
          <a:xfrm rot="19903200">
            <a:off x="3347640" y="34999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4140360" y="1197000"/>
            <a:ext cx="5003640" cy="4464000"/>
          </a:xfrm>
          <a:custGeom>
            <a:avLst/>
            <a:gdLst>
              <a:gd name="textAreaLeft" fmla="*/ 1142280 w 5003640"/>
              <a:gd name="textAreaRight" fmla="*/ 3861360 w 5003640"/>
              <a:gd name="textAreaTop" fmla="*/ 1018800 h 4464000"/>
              <a:gd name="textAreaBottom" fmla="*/ 344520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трашный удар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4" name="Picture 11" descr="60"/>
          <p:cNvPicPr/>
          <p:nvPr/>
        </p:nvPicPr>
        <p:blipFill>
          <a:blip r:embed="rId3"/>
          <a:stretch/>
        </p:blipFill>
        <p:spPr>
          <a:xfrm>
            <a:off x="6227640" y="3860640"/>
            <a:ext cx="1724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2205000"/>
            <a:ext cx="8062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крайнее истощение организм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значительная потеря массы те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упадок физических сил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амая распространенная болезнь среди наркоманов - гепати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ПИД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9640" y="476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У наркомана пропадают не только социальные рефлексы, но и инстинкт самосохранения и моральная устойчивос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Появляется полное безразличие к окружению, умственное отупение и снижение интеллекта. Человек становится примитивно эгоистичен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татист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Из 1500 зарегистрированных наркоманов, которые умерли в 1997 году, больше 1000 скончались от передозиров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За последний год количество ВИЧ-инфецированных увеличилось в ШЕСТЬ раз. 80% из числа вновь заразившихся составляют наркоманы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Неполноценные дет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ижение генофонда и вымирание наци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А  это  – вопрос безопасности страны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40464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же ждет нашу страну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если не остановить эту бед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8" descr="J0234760"/>
          <p:cNvPicPr/>
          <p:nvPr/>
        </p:nvPicPr>
        <p:blipFill>
          <a:blip r:embed="rId1"/>
          <a:stretch/>
        </p:blipFill>
        <p:spPr>
          <a:xfrm>
            <a:off x="7667640" y="5300640"/>
            <a:ext cx="990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Рисунок93"/>
          <p:cNvPicPr/>
          <p:nvPr/>
        </p:nvPicPr>
        <p:blipFill>
          <a:blip r:embed="rId1"/>
          <a:stretch/>
        </p:blipFill>
        <p:spPr>
          <a:xfrm>
            <a:off x="611280" y="5084640"/>
            <a:ext cx="798480" cy="1447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8"/>
          <p:cNvSpPr txBox="1"/>
          <p:nvPr/>
        </p:nvSpPr>
        <p:spPr>
          <a:xfrm>
            <a:off x="1000080" y="1214280"/>
            <a:ext cx="741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 - это не все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но все без здоровья - ничт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6:46:36Z</dcterms:created>
  <dc:creator>Dom</dc:creator>
  <dc:description/>
  <dc:language>en-US</dc:language>
  <cp:lastModifiedBy>inform_2</cp:lastModifiedBy>
  <dcterms:modified xsi:type="dcterms:W3CDTF">2010-04-06T04:38:51Z</dcterms:modified>
  <cp:revision>28</cp:revision>
  <dc:subject/>
  <dc:title>Слайд 1</dc:title>
</cp:coreProperties>
</file>